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025-7FBF-411D-922E-78F6BFF0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E55-70D9-4466-9F84-7278101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1C0-6678-46F8-A144-31A8D3D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A36-8924-4824-BF49-2C78947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FBD-D6C7-4338-924F-1D536CE3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82C-67C0-4F38-9FF2-8FECB6E4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E34D-7996-495B-9D69-DB0ECE5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E49C-8E8C-4244-9F39-70E3DCCE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765-AA29-41CD-988A-F58D3C6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FC0-116D-45FB-BF0F-F2BD2CB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D08-AEAC-4F77-8285-8960DDF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72F-5937-4002-9E0B-C24F8FB7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C183-C15E-48D6-BC8E-8BAE2DFA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44B-72E9-458B-BB99-53EC99C5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BFD-4292-4C1F-9ADE-020A331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CBAA-56C7-4BCA-9147-7544A2E5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C1D-BB6A-48D1-8C45-F2B21B0D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B42-3E2A-4844-92AB-579C481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25C-F55F-4AED-B936-10149EC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DA5-3BF3-485B-BF86-D22FE21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4D5-419A-4E00-A28E-D84F9220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B7E-0819-4EDF-AEC6-73CFA9B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DAB-7441-4F27-BA14-BE231BD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E60-F5E8-4221-B556-63B1B6A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28D-89AD-47FB-9223-70DA32C5957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C0F-71C4-4CEB-BE69-61BDB8D9627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Cha Ch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0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Riya, Shiine, Popy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heerful and loves to pla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fraid of mic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1905120"/>
          <a:ext cx="380988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38098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92280" y="1981080"/>
          <a:ext cx="32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32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 bal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uper strong bo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erewolf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04800" y="1981080"/>
          <a:ext cx="3389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981080"/>
                    <a:ext cx="3389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household chore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Good at materializing  fireball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28640" y="1981080"/>
          <a:ext cx="3141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981080"/>
                    <a:ext cx="3141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Ma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Yakk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Riy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Cha Cha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Mermai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22520"/>
          <a:ext cx="381024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22520"/>
                    <a:ext cx="381024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Yakko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Orin, Ma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Cha Cha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Good in making potion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133720"/>
          <a:ext cx="3810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3810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Ori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e: 10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Yakko, Cha Cha, and more…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 people who also like Shiine ^_^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 ninja gir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89040" y="1981080"/>
          <a:ext cx="322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1981080"/>
                    <a:ext cx="322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Likes golden-hair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pink-hair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orld’s greatest magicia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a doll named Elizabeth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71760" y="1981080"/>
          <a:ext cx="325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981080"/>
                    <a:ext cx="325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Doroth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Dislikes Seravi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a temper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Really violent woma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anted to be the world’s greatest magician since she was a chil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ACC inform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50880" y="1981080"/>
          <a:ext cx="3297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981080"/>
                    <a:ext cx="329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ame: Popy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Friends: Cha Cha, Riya, Shiin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nrolled in Urara Gakuen when the gang were in grade 2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s ESP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Have lollipop-like markings at his cheek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2T04:04:40Z</dcterms:created>
  <dc:creator>Robert Roy</dc:creator>
  <dc:description/>
  <dc:language>en-US</dc:language>
  <cp:lastModifiedBy>Vincent Tan</cp:lastModifiedBy>
  <dcterms:modified xsi:type="dcterms:W3CDTF">1993-12-02T12:02:53Z</dcterms:modified>
  <cp:revision>6</cp:revision>
  <dc:subject/>
  <dc:title>Useless Inventions</dc:title>
</cp:coreProperties>
</file>